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9A00-4BD3-4A49-80A9-8A005E0B685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EBC-7470-46DA-B26C-0F161DE0764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578C-D3A2-439D-8F6A-8C21D79B34D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5960" y="299880"/>
            <a:ext cx="77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eserving the Scientific Record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Establishing Relationships with Archives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ing the Scientific Record: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tablishing Relationships with Archiv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bout Data Archiv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view data resources as having an extended temporal horiz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st: Recovering legacy datase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rrent: Attending to ongoing data collec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uture: Designing for the flexibility, compatibility, and sustainabi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have intensive data description requir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o enable routine and unforeseen data us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o enable maintenance and preservation of data over tim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continuously update technolog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mall iterative updates more common than large-scale replac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are highly collaborat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ork with scientists to ingest and document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ork with other archives to share capacity and knowled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uilding Relationships With Archiv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at data do you have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ere will the data go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ow to get set up with an archive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at data do you have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34680" y="2324160"/>
            <a:ext cx="11861640" cy="689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at type of data will be produced? Ex. numerical data, image data, text sequences or modeling data?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ow much data, and at what growth rate? Are you gathering data by hand or using instrumentation that is able to capture a lot of data at once? Will there be more data as time goes on? If so, you will need to plan for growth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ill the data change frequently? Keeping track of rapidly changing datasets can be a challenge, so it's imperative you begin with a plan that will carry you through the data management process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From MIT Libraries, “Evaluate Your Data Needs,” http://libraries.mit.edu/guides/subjects/data-management/evaluate.html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ere will your data go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o is your audience for the data? How will they use them? This will tell you how to structure the data and where to distribute the data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o controls the data (PI, student, lab, institution, funder)? Before you spend a lot of time figuring out where to submit your data, you need to know if you have the authority to submit the data at all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ow long should the data be retained? Ex. 3-5 years, 10-20 years, permanently? Not all data needs to be retained indefinitely. Look at archives’ data policies for retention options and requirements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From MIT Libraries, “Evaluate Your Data Needs,” http://libraries.mit.edu/guides/subjects/data-management/evaluate.html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to get set up with an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Look at an archive’s data submission policies/procedures. Example procedures are: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orporated Research Institutions for Seismology: http://www.iris.edu/data/#submit_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:                       http://nsidc.org/data/submit.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 DAAC for Biogeochemical Dynamics: http://daac.ornl.gov/PI/pi_info.shtml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pace Science Data Center: http://nssdc.gsfc.nasa.gov/nssdc/submitting_data.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 Planetary Data System:              http://pds.jpl.nasa.gov/tools/archiving.s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ntact the data archive. Most archives will work with you directly to submit data, as long as the data are within their scope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7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ok, L., S.K. Santhana Vannan, T. Beaty, B. Wilson, and B. Cook. 2010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Best Practices for Preparing Environmental Data Sets to Share and Archiv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Oak Ridge National Laboratory Distributed Active Archive Center, Oak Ridge, Tennessee. http://dx.doi.org/10.3334/ORNLDAAC/BestPractices-2010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Karasti, H., K. Baker, and E. Halkola. 2006. “Enriching the notion of data curation in escience: data managing and information infrastructuring in the long term ecological research (LTER) network.”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Computer Supported Cooperative Work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15(4): 321-358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.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dx.doi.org/10.1007/s10606-006-9023-2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IT Libraries. 2011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Data Management and Publishing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http://libraries.mit.edu/guides/subjects/data-management/index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cal data management: Manag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cal data management: 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strategies: 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strategies: What data goes into a long-term archiv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yernik</cp:lastModifiedBy>
  <dcterms:modified xsi:type="dcterms:W3CDTF">2011-10-26T21:02:01Z</dcterms:modified>
  <cp:revision>293</cp:revision>
  <dc:subject/>
  <dc:title>ESIP Federation 101</dc:title>
</cp:coreProperties>
</file>